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5.gif" ContentType="image/gif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4.png" ContentType="image/png"/>
  <Override PartName="/ppt/media/image24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B13-5015-4745-9538-BD5AED81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DD3-00DE-4B6F-9621-64C33605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E21-2E81-44B3-AB1B-7783D683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816-647C-43D8-BC18-BE6D1FEA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FBF-E4BF-4545-A0A3-30DA33FA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E80-1634-4799-BBBA-72CC1341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41A-CAA9-4C5E-8028-E8F0482D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0C1-5449-4717-B4E2-822B6FDC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C1A-2A85-483C-B668-C1BB6AB0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AC8-30AB-477D-9145-D4925AB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FDD-BDF8-4CA6-B86D-0A0DC001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684-CCB2-4D33-8808-94A9312A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885F-B249-4586-8B7C-2686EBE9E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.uk/imgres?imgurl=http://leighhouse.typepad.com/photos/uncategorized/sausage35.jpg&amp;imgrefurl=http://leighhouse.typepad.com/blog/media_mix/index.html&amp;h=383&amp;w=493&amp;sz=15&amp;hl=en&amp;start=11&amp;um=1&amp;tbnid=3w4xGoEF_mKScM:&amp;tbnh=101&amp;tbnw=130&amp;prev=/images%3Fq%3Dsausage%2Bclip%2Bart%26svnum%3D10%26um%3D1%26hl%3Den%26rlz%3D1T4ADBF_en-GBGB233GB233%26sa%3DN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google.co.uk/imgres?imgurl=http://dclips.fundraw.com/thumbdir/pie_cherry.jpg&amp;imgrefurl=http://www.fundraw.com/clipart/categories/Cooking_And_Food/Cake_And_Baked_Goods/00000020&amp;h=94&amp;w=94&amp;sz=7&amp;hl=en&amp;start=1&amp;um=1&amp;tbnid=iIEbLm2Ship7FM:&amp;tbnh=80&amp;tbnw=80&amp;prev=/images%3Fq%3Dcherry%2Bpie%2Bclip%2Bart%26svnum%3D10%26um%3D1%26hl%3Den%26rlz%3D1T4ADBF_en-GBGB233GB233%26sa%3DN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images.google.co.uk/imgres?imgurl=http://67.15.62.77/_gallery/_TN/0269-0609-0421-4829_TN.jpg&amp;imgrefurl=http://www.acclaimimages.com/search_terms/swirl.html&amp;h=100&amp;w=67&amp;sz=3&amp;hl=en&amp;start=4&amp;um=1&amp;tbnid=t0dQm3Eh9aZgWM:&amp;tbnh=82&amp;tbnw=55&amp;prev=/images%3Fq%3Dlollipop%2Bclip%2Bart%26svnum%3D10%26um%3D1%26hl%3Den%26rlz%3D1T4ADBF_en-GBGB233GB233%26sa%3DN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co.uk/imgres?imgurl=http://www.pcc-web.com/depts/ict/schKS4Year10/coursework/Clipart3%2520salami.bmp&amp;imgrefurl=http://www.pcc-web.com/depts/ict/SchKS3Year10.asp&amp;h=96&amp;w=150&amp;sz=16&amp;hl=en&amp;start=3&amp;um=1&amp;tbnid=FJVcy3bMcV5MzM:&amp;tbnh=61&amp;tbnw=96&amp;prev=/images%3Fq%3Dsalami%2Bclip%2Bart%26svnum%3D10%26um%3D1%26hl%3Den%26rlz%3D1T4ADBF_en-GBGB233GB233%26sa%3DN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clipartmountain.com/clip3/pickle12.gif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images.google.co.uk/imgres?imgurl=http://www.designedtoat.com/clipart/food6.gif&amp;imgrefurl=http://www.designedtoat.com/food.htm&amp;h=98&amp;w=117&amp;sz=7&amp;hl=en&amp;start=7&amp;um=1&amp;tbnid=tb3mkVAePgg-OM:&amp;tbnh=74&amp;tbnw=88&amp;prev=/images%3Fq%3Dswiss%2Bcheese%2Bclip%2Bart%26svnum%3D10%26um%3D1%26hl%3Den%26rlz%3D1T4ADBF_en-GBGB233GB233%26sa%3DN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images.google.co.uk/imgres?imgurl=http://www.clipartandcrafts.com/clipart/themes/party/thumbs/ice-cream-cone-th.gif&amp;imgrefurl=http://www.clipartandcrafts.com/clipart/themes/party/index.htm&amp;h=125&amp;w=71&amp;sz=3&amp;hl=en&amp;start=21&amp;um=1&amp;tbnid=yeAGL_54ivu4TM:&amp;tbnh=90&amp;tbnw=51&amp;prev=/images%3Fq%3Dice-cream%2Bcone%2Bclip%2Bart%26start%3D20%26ndsp%3D20%26svnum%3D10%26um%3D1%26hl%3Den%26rlz%3D1T4ADBF_en-GBGB233GB233%26sa%3DN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fotosearch.com/comp/ART/ART168/EAT024.jpg" TargetMode="External"/><Relationship Id="rId19" Type="http://schemas.openxmlformats.org/officeDocument/2006/relationships/image" Target="../media/image20.jpe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.uk/imgres?imgurl=http://www.bigapplecloggers.com/images/apple_logo_MS_Clip.gif&amp;imgrefurl=http://www.bigapplecloggers.com/&amp;h=364&amp;w=341&amp;sz=4&amp;hl=en&amp;start=1&amp;um=1&amp;tbnid=rSd76EBBqgI_jM:&amp;tbnh=121&amp;tbnw=113&amp;prev=/images%3Fq%3Dapple%2Bclip%26svnum%3D10%26um%3D1%26hl%3Den%26rlz%3D1T4ADBF_en-GBGB233GB233%26sa%3DN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lipart.nicubunu.ro/png/fruits/strawberry.svg.pn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clipart.nicubunu.ro/png/fruits/strawberry.svg.pn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clipart.nicubunu.ro/png/fruits/strawberry.svg.png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clipart.nicubunu.ro/png/fruits/strawberry.svg.pn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lipart.nicubunu.ro/svg/fruits/orange.sv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clipart.nicubunu.ro/svg/fruits/orange.svg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clipart.nicubunu.ro/svg/fruits/orange.svg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clipart.nicubunu.ro/svg/fruits/orange.svg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clipart.nicubunu.ro/svg/fruits/orange.svg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d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Very Hungry Caterpilla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y Eric Car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4211640" cy="299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64000" y="5445000"/>
            <a:ext cx="1238040" cy="981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11280" y="4653000"/>
            <a:ext cx="2160720" cy="1536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16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3933720"/>
            <a:ext cx="1238040" cy="962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59280" y="386064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19640" y="3789360"/>
            <a:ext cx="96516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116000" y="4076640"/>
            <a:ext cx="1655640" cy="1052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1844640"/>
            <a:ext cx="1512720" cy="137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516720" y="1916280"/>
            <a:ext cx="1368360" cy="115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203640" y="1700280"/>
            <a:ext cx="898560" cy="1584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042920" y="1773360"/>
            <a:ext cx="1657440" cy="160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 Saturday he ate through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5229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night he had stomach-ach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1413000"/>
            <a:ext cx="2519280" cy="1871640"/>
          </a:xfrm>
          <a:prstGeom prst="cloudCallout">
            <a:avLst>
              <a:gd name="adj1" fmla="val -28388"/>
              <a:gd name="adj2" fmla="val 148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’m i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0"/>
          <a:stretch/>
        </p:blipFill>
        <p:spPr>
          <a:xfrm>
            <a:off x="83170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loud"/>
          <p:cNvSpPr/>
          <p:nvPr/>
        </p:nvSpPr>
        <p:spPr>
          <a:xfrm>
            <a:off x="640080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next day was Sunday again. The caterpillar ate through one nice green leaf, and after that he felt much bet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2160720" cy="1536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81400" y="1700280"/>
            <a:ext cx="2119320" cy="2119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8388360" y="62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885080" y="342900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359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Cloud"/>
          <p:cNvSpPr/>
          <p:nvPr/>
        </p:nvSpPr>
        <p:spPr>
          <a:xfrm>
            <a:off x="5364000" y="40464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w he wasn’t hungry anymore- and he wasn’t a little caterpillar any m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2889360"/>
            <a:ext cx="6192720" cy="3968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5280" y="5516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was a big, fat caterpillar.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5992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53440" y="566100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623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 built a small house, called a cocoon, around himself. He stayed inside for more than two wee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40720" cy="33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16000" y="551664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 he nibbled a hole in the cocoon, pushed his way out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rcRect l="80870" t="22535" r="1563" b="0"/>
          <a:stretch/>
        </p:blipFill>
        <p:spPr>
          <a:xfrm>
            <a:off x="7020000" y="2421000"/>
            <a:ext cx="1103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 rot="1561800">
            <a:off x="5003280" y="422064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loud"/>
          <p:cNvSpPr/>
          <p:nvPr/>
        </p:nvSpPr>
        <p:spPr>
          <a:xfrm>
            <a:off x="2509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was a beautiful butterfl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3108000">
            <a:off x="500040" y="1307880"/>
            <a:ext cx="4763880" cy="3246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651640" y="-963720"/>
            <a:ext cx="31096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354 0.4829 C -0.38854 0.30675 -0.41354 0.13061 -0.34704 0.12691 C -0.2809 0.12321 -0.03263 0.51734 0.03438 0.46117 C 0.10139 0.405 -0.00937 -0.09385 0.05487 -0.20989 C 0.1191 -0.32593 0.33212 -0.29403 0.42014 -0.23439 C 0.50816 -0.17476 0.59931 0.03144 0.58334 0.14864 C 0.56737 0.26537 0.40035 0.45007 0.32414 0.46672 C 0.24792 0.48336 0.14393 0.31947 0.12622 0.24919 C 0.10851 0.17869 0.20174 0.08137 0.21806 0.04554 E">
                                      <p:cBhvr>
                                        <p:cTn id="371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500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494172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n the light of the moon a little egg lay on a lea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831200">
            <a:off x="3394080" y="2583000"/>
            <a:ext cx="865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480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2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79056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87640" y="2781360"/>
            <a:ext cx="790560" cy="990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e Sunday morning the warm sun came up and pop! Out of the egg came a tiny and very hungry caterpill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516720" y="44280"/>
            <a:ext cx="2647800" cy="25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067280" y="2205000"/>
            <a:ext cx="2592360" cy="184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6360" y="3656160"/>
            <a:ext cx="9659880" cy="947520"/>
          </a:xfrm>
          <a:custGeom>
            <a:avLst/>
            <a:gdLst/>
            <a:ahLst/>
            <a:rect l="l" t="t" r="r" b="b"/>
            <a:pathLst>
              <a:path w="6085" h="597">
                <a:moveTo>
                  <a:pt x="0" y="583"/>
                </a:moveTo>
                <a:cubicBezTo>
                  <a:pt x="128" y="329"/>
                  <a:pt x="257" y="76"/>
                  <a:pt x="771" y="38"/>
                </a:cubicBezTo>
                <a:cubicBezTo>
                  <a:pt x="1285" y="0"/>
                  <a:pt x="2457" y="333"/>
                  <a:pt x="3084" y="356"/>
                </a:cubicBezTo>
                <a:cubicBezTo>
                  <a:pt x="3711" y="379"/>
                  <a:pt x="4075" y="145"/>
                  <a:pt x="4536" y="175"/>
                </a:cubicBezTo>
                <a:cubicBezTo>
                  <a:pt x="4997" y="205"/>
                  <a:pt x="5617" y="477"/>
                  <a:pt x="5851" y="537"/>
                </a:cubicBezTo>
                <a:cubicBezTo>
                  <a:pt x="6085" y="597"/>
                  <a:pt x="5927" y="537"/>
                  <a:pt x="5942" y="537"/>
                </a:cubicBezTo>
              </a:path>
            </a:pathLst>
          </a:custGeom>
          <a:noFill/>
          <a:ln w="763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Cloud"/>
          <p:cNvSpPr/>
          <p:nvPr/>
        </p:nvSpPr>
        <p:spPr>
          <a:xfrm>
            <a:off x="971640" y="40464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493236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101080" y="2924280"/>
            <a:ext cx="7905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loud"/>
          <p:cNvSpPr/>
          <p:nvPr/>
        </p:nvSpPr>
        <p:spPr>
          <a:xfrm>
            <a:off x="4427640" y="33336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4724280"/>
            <a:ext cx="79056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e started to look for some food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36360" y="3897360"/>
            <a:ext cx="9899640" cy="1763640"/>
          </a:xfrm>
          <a:custGeom>
            <a:avLst/>
            <a:gdLst/>
            <a:ahLst/>
            <a:rect l="l" t="t" r="r" b="b"/>
            <a:pathLst>
              <a:path w="6236" h="1111">
                <a:moveTo>
                  <a:pt x="0" y="884"/>
                </a:moveTo>
                <a:cubicBezTo>
                  <a:pt x="105" y="642"/>
                  <a:pt x="211" y="401"/>
                  <a:pt x="816" y="431"/>
                </a:cubicBezTo>
                <a:cubicBezTo>
                  <a:pt x="1421" y="461"/>
                  <a:pt x="2790" y="1111"/>
                  <a:pt x="3629" y="1066"/>
                </a:cubicBezTo>
                <a:cubicBezTo>
                  <a:pt x="4468" y="1021"/>
                  <a:pt x="5466" y="318"/>
                  <a:pt x="5851" y="159"/>
                </a:cubicBezTo>
                <a:cubicBezTo>
                  <a:pt x="6236" y="0"/>
                  <a:pt x="5927" y="113"/>
                  <a:pt x="5942" y="113"/>
                </a:cubicBezTo>
              </a:path>
            </a:pathLst>
          </a:custGeom>
          <a:noFill/>
          <a:ln w="763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2592360" cy="1844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96000" y="260280"/>
            <a:ext cx="3058920" cy="2808360"/>
          </a:xfrm>
          <a:prstGeom prst="cloudCallout">
            <a:avLst>
              <a:gd name="adj1" fmla="val -62092"/>
              <a:gd name="adj2" fmla="val 47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1052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’m hungr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79056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076720" y="443700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790560" cy="990360"/>
          </a:xfrm>
          <a:prstGeom prst="rect">
            <a:avLst/>
          </a:prstGeom>
          <a:ln w="0">
            <a:noFill/>
          </a:ln>
        </p:spPr>
      </p:pic>
      <p:sp>
        <p:nvSpPr>
          <p:cNvPr id="70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"/>
          <p:cNvSpPr/>
          <p:nvPr/>
        </p:nvSpPr>
        <p:spPr>
          <a:xfrm>
            <a:off x="579600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Monday he ate through one apple. But he was still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565360"/>
            <a:ext cx="2084400" cy="2232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067280" y="692280"/>
            <a:ext cx="3313080" cy="1368360"/>
          </a:xfrm>
          <a:prstGeom prst="wedgeRoundRectCallout">
            <a:avLst>
              <a:gd name="adj1" fmla="val -70365"/>
              <a:gd name="adj2" fmla="val 1656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1052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956720" y="450864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4067280" y="443700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35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359"/>
                            </p:stCondLst>
                            <p:childTnLst>
                              <p:par>
                                <p:cTn id="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loud"/>
          <p:cNvSpPr/>
          <p:nvPr/>
        </p:nvSpPr>
        <p:spPr>
          <a:xfrm>
            <a:off x="558000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Tuesday he ate through two pears, but he was still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05280" y="247644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35640" y="2565360"/>
            <a:ext cx="133344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67280" y="692280"/>
            <a:ext cx="3313080" cy="1368360"/>
          </a:xfrm>
          <a:prstGeom prst="wedgeRoundRectCallout">
            <a:avLst>
              <a:gd name="adj1" fmla="val -70365"/>
              <a:gd name="adj2" fmla="val 1656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1052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01080" y="134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956720" y="450864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877080" y="429264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Wednesday he ate through three plums, but he was still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08360" y="3637080"/>
            <a:ext cx="934920" cy="91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03640" y="3494160"/>
            <a:ext cx="100836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56360" y="3494160"/>
            <a:ext cx="1008000" cy="98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51280" y="2060640"/>
            <a:ext cx="3313080" cy="865080"/>
          </a:xfrm>
          <a:prstGeom prst="wedgeRoundRectCallout">
            <a:avLst>
              <a:gd name="adj1" fmla="val -68162"/>
              <a:gd name="adj2" fmla="val 18302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2205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845964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7956720" y="450864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012000" y="522936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4356000" y="537372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loud"/>
          <p:cNvSpPr/>
          <p:nvPr/>
        </p:nvSpPr>
        <p:spPr>
          <a:xfrm>
            <a:off x="5940360" y="33336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Thursday he ate through four strawberries, but he was still hungry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2808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6000" y="28065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8083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19640" y="2708280"/>
            <a:ext cx="1179360" cy="117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64000" y="333360"/>
            <a:ext cx="3313080" cy="934920"/>
          </a:xfrm>
          <a:prstGeom prst="wedgeRoundRectCallout">
            <a:avLst>
              <a:gd name="adj1" fmla="val -70365"/>
              <a:gd name="adj2" fmla="val 26562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6922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n Friday he ate through five oranges, but he was still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thum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57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thum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421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thumb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thum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2781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thum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67640" y="357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468360" y="3645000"/>
            <a:ext cx="2592360" cy="184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19640" y="1773360"/>
            <a:ext cx="3313080" cy="792000"/>
          </a:xfrm>
          <a:prstGeom prst="wedgeRoundRectCallout">
            <a:avLst>
              <a:gd name="adj1" fmla="val -72518"/>
              <a:gd name="adj2" fmla="val 2680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989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6516720" y="551664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3059280" y="5516640"/>
            <a:ext cx="7905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7:50:27Z</dcterms:created>
  <dc:creator>Lorraine Webster</dc:creator>
  <dc:description/>
  <dc:language>en-US</dc:language>
  <cp:lastModifiedBy>Cynthia</cp:lastModifiedBy>
  <dcterms:modified xsi:type="dcterms:W3CDTF">2010-09-05T20:48:27Z</dcterms:modified>
  <cp:revision>4</cp:revision>
  <dc:subject/>
  <dc:title>The Very Hungry Caterpillar.</dc:title>
</cp:coreProperties>
</file>